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C8C98-0FCD-4B0F-B588-22264B05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9D0A9-49BF-4739-BD70-E4D6D212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FEA28-241E-4C2C-A302-DFD439CD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92A3F-E635-4332-9837-8DD9EF24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E804A-7738-4A31-B7D6-CE924EEB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4FE10-A279-48E1-9491-B21B1F6D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AFC38-A860-40AD-8C3C-10F760D9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CBE9B-4376-4F66-821B-47311850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814A9-AF2E-48D3-9657-5B8D859A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9CF64-409A-4B2F-89BD-EA0593F9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CB6FD-F68D-4D24-824F-9DE6A982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3B68D-BFCA-4620-8A9F-061BEB84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C82A0-1C21-46DE-A50B-1E8C2636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91ECE-C87F-4003-86F2-5E85C3BD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C447A-2C05-4561-879E-F504B640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22056-376B-428A-B544-6A7C9B18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19A45-4386-4448-9417-675D3E4F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6D293-9EE5-4B8F-9DCC-E7BB8A4E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415FA-0C0F-4ADE-8C3F-7DAE096F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D2A3E-04D8-4989-B887-C7C3CCAF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8832B-78C1-47F6-9E9F-BF3D4A92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2F306-3D99-455E-9404-DB393D2A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91E0E-2CE9-429C-9662-BB6A9B27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19FBD-BED4-45AF-9A17-2C472876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0FFAA-31F9-4DC8-AA49-D8DC8F3C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DCD7C-529A-4844-BF31-6C22B1B5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6890A-B92E-46EA-8203-7328E61A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DC551-5BA5-4C64-A8CD-0902D681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B03D6-6789-45CE-981B-05F3246C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C0310-CCB2-4557-81C2-60588C67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CA6-23F3-41E2-A910-7E9E5D0E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1EFEA-8C7B-444C-90C1-B6644A9D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40A66-41CE-493F-9A66-D8D236F2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2F9E1-133C-4808-9066-BDB38DF9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C4537-CCBA-4FC8-B50D-4D32ECCA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E6ABB-EEE9-4B55-9CDD-8D511FD7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2E0CB-BF37-4942-9D9D-23D2811B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69D07-AACD-4ABC-B976-768BC4F0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A0F91-AD18-4205-84A6-7BB740FF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DEE7E-2221-4A55-A2E3-436067C3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F7432-08CE-4A62-A2BE-188EBF2C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79A-451B-4459-AEBB-C7751067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92A46-0B20-41A2-93D8-92711592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AC233-3FE3-4883-84F4-3BF5D818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46ADF-57E2-4B1B-B259-33C854A1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EE80B-A1C8-4849-8F67-9050FA88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EB950-237A-46D5-A1FB-50872E11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CBB-0C3E-4C54-8805-1DF3F7EF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42E-06D6-4E9F-937F-C8F1C174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C7E-B325-4ABA-BB3B-B4BA1B5B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06C-82E5-4777-968E-688D13A8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9D42-4920-4E58-9B86-687DA114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CB74-0657-40D9-9373-2735882C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6DA-D65A-4959-9EE0-1E60F311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B47-41A7-424D-8B0E-091CB289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234-9AA4-4D27-91CE-CD877904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709-FB9A-44D8-A514-1D9123A0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AAEE-4BD2-45C4-B921-51E8D4CC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0D48-7568-4634-BB3E-2E67C238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B284-E225-41B3-AA67-137CC9CF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2B39-2732-4354-9FD5-FE86636C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8FC3-7681-49EB-B097-40BA31D1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EB3F-F1CB-4E5B-8E00-80B2C25C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341E-F5C7-44C4-9E6D-1788097F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AC5A-DDBF-4306-9D5E-67944C92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29B5-42F1-477A-A3CD-2BF0FB21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EE9F-3817-4EA1-BF4F-BB2D48FE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AE6B-7B05-4A21-9C7D-CC785581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0CDF-80FE-4AF3-9953-C04D8B60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A980A-DC8D-4D95-AC64-FB82093F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1A519-1F0B-40E3-8BAF-C5D8D198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C2996-F8D9-4055-972F-F5053D37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59072-BFDC-4AFD-826C-68FFEE2A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C9822-5C75-4449-8115-E0AE3719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6A1E4-3E52-4BCB-96FC-9B9D85C7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9DBAA-7103-4F72-AE89-F1E4C323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B52A4-99D9-4F1D-8255-54B7147C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FC6EB-A049-4207-A955-77B9D373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862AE-EA0F-4EA0-871F-891F1BF5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E4673-46B6-451E-BB0D-17D1DF02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30067-CBED-4D3A-878D-AEFF1665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A4C20-1E9D-4CE7-B706-50E85B67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33EC7-13F2-4C1E-9C25-748CB826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7650A-4B2C-4799-A944-DEE30525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87A2E-0634-4665-8F9F-596E97E6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7EEB5-BAF0-4939-B566-DA78E146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CD536-EC3E-4E8E-9BDA-EBDEA842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18AEF-35E7-4D80-AD78-EECC0FDC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02CF0-2B46-443E-8572-13D5FA23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E0E19-C444-4B1C-BCDC-80BA7111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F350C-60CE-4990-B5EA-69D95575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739FA-FAA7-4709-9AD2-47298725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A81BC-6F42-49B0-829D-68D4A7F2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49B52-B90D-4921-9EF3-2C2A336D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CC579-FF46-4A37-972C-7B7C1144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DB076-98C0-4984-8D96-B970F7FB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13252-1952-4703-AFFE-2195C09A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22D7D-900D-42DD-A7E2-E4858FF0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E7E65-C3EA-4D04-8170-ABF86C72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E3404-7713-47D7-9926-1232DFF0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0D24F-BEBF-4102-BE3F-63CA96BE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133E4-7402-427C-A22E-18D0D25C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C78AF-11CB-4094-BCAF-EE000F69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DC3F1-F9B1-47A3-8BC8-C1CFCF5F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DA9C4-B34C-4735-933C-D2CDA734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47C5B-BE92-4780-B84D-AB8E9D90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4D3CF-2E51-4A3B-98CA-1289DCB8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CF0B1-2486-4C43-93DF-309BC521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96A4E-37EA-4327-8935-26F0453F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E3911-6566-4C8F-8931-D17BFDDF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2A08F-92E9-4D9F-A299-4B524B48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2AFDA-5F47-443F-8D0A-D1CB1DFA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7771B-33D9-48C8-9D52-8D8C67AB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D3392-4F40-47C0-A7E0-91C7EC39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7DBF6-AC60-456F-98DC-EB498B7B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27C7C-F8AB-4ED6-BC75-A31961A1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0B56D-D5E3-4E0D-AC8E-BFD21670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5AFED-7B23-4BDA-A291-9AFF0309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2779F-60D1-4873-8627-E980ABA4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005AD-B6AC-40B9-B10D-B542CA73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4258C-48FF-4910-83C0-392B981B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DA992-7750-416D-BCA1-830FFA8E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5DD66-CD4F-4158-AF6E-AC1F6DE2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88E69-9C0E-4BD4-87BA-41154984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05DD3-8B12-4456-BFC7-AE389B82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8C7D8-5738-4C09-95D7-C1FF4E84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ACAC1-DBFD-43EC-80E0-4F84D7E5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B6434-624C-4E27-9AAC-4F14E2AD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26014-5A45-47B5-9BAA-D2EF25BB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C48EF-F4C1-4D25-8260-2BA56D86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1CF8F-BB5A-4857-981C-C3F094A2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48B2B-D8E1-4903-B884-2EB4436A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CF74-44EB-4E4A-9ED1-B498F57D51F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576C-B859-4F01-B346-4F062BFD45D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E3E1-2905-4D2B-97E6-D2DF04DBBFE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1F5E-3474-4EC5-9B44-DC3AB581B64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D3A2-8C0F-45C4-A4E5-D7EAE89FB53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5E06-13DC-4992-828D-2C73FA329E8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C41E-6AF3-44C6-9D2A-CDFE2956A40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5BCA-DF4D-4AC5-8F4D-24A98D2D86A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7C82-741F-44FA-88C5-0D64F693BF0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314D-D3A5-427F-92CD-BB8F72035F4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02B5-F68A-438E-BC19-4D32BD8AD25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85852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7933c"/>
                </a:solidFill>
                <a:latin typeface="Eras Demi ITC"/>
              </a:rPr>
              <a:t>I</a:t>
            </a:r>
            <a:r>
              <a:rPr b="1" lang="es-ES_tradnl" sz="2800" spc="-1" strike="noStrike">
                <a:solidFill>
                  <a:srgbClr val="953735"/>
                </a:solidFill>
                <a:latin typeface="Calibri"/>
              </a:rPr>
              <a:t>DENTI</a:t>
            </a:r>
            <a:r>
              <a:rPr b="1" lang="es-ES_tradnl" sz="2800" spc="-1" strike="noStrike">
                <a:solidFill>
                  <a:srgbClr val="1f497d"/>
                </a:solidFill>
                <a:latin typeface="Chiller"/>
              </a:rPr>
              <a:t>DAD</a:t>
            </a: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604a7b"/>
                </a:solidFill>
                <a:latin typeface="Arial Narrow"/>
              </a:rPr>
              <a:t>SOCIA</a:t>
            </a:r>
            <a:r>
              <a:rPr b="1" lang="es-ES_tradnl" sz="2800" spc="-1" strike="noStrike">
                <a:solidFill>
                  <a:srgbClr val="604a7b"/>
                </a:solidFill>
                <a:latin typeface="comi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Marcador de contenido 3" descr=""/>
          <p:cNvPicPr/>
          <p:nvPr/>
        </p:nvPicPr>
        <p:blipFill>
          <a:blip r:embed="rId1"/>
          <a:stretch/>
        </p:blipFill>
        <p:spPr>
          <a:xfrm>
            <a:off x="158760" y="1670040"/>
            <a:ext cx="8997840" cy="4786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6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12" descr="http://www.campamento.lebal.es/wp-content/uploads/2011/06/Metodologia.jpg"/>
          <p:cNvPicPr/>
          <p:nvPr/>
        </p:nvPicPr>
        <p:blipFill>
          <a:blip r:embed="rId2"/>
          <a:stretch/>
        </p:blipFill>
        <p:spPr>
          <a:xfrm>
            <a:off x="324000" y="1989000"/>
            <a:ext cx="1666800" cy="905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2" descr="http://200.116.126.171/cacvirtual/images/metodologias.png"/>
          <p:cNvPicPr/>
          <p:nvPr/>
        </p:nvPicPr>
        <p:blipFill>
          <a:blip r:embed="rId3"/>
          <a:stretch/>
        </p:blipFill>
        <p:spPr>
          <a:xfrm>
            <a:off x="36360" y="4840200"/>
            <a:ext cx="2341800" cy="1255680"/>
          </a:xfrm>
          <a:prstGeom prst="rect">
            <a:avLst/>
          </a:prstGeom>
          <a:ln w="0">
            <a:noFill/>
          </a:ln>
        </p:spPr>
      </p:pic>
      <p:pic>
        <p:nvPicPr>
          <p:cNvPr id="491" name="Imagen 4" descr=""/>
          <p:cNvPicPr/>
          <p:nvPr/>
        </p:nvPicPr>
        <p:blipFill>
          <a:blip r:embed="rId4"/>
          <a:stretch/>
        </p:blipFill>
        <p:spPr>
          <a:xfrm>
            <a:off x="623880" y="3265560"/>
            <a:ext cx="1068480" cy="1066680"/>
          </a:xfrm>
          <a:prstGeom prst="rect">
            <a:avLst/>
          </a:prstGeom>
          <a:ln w="0">
            <a:noFill/>
          </a:ln>
        </p:spPr>
      </p:pic>
      <p:sp>
        <p:nvSpPr>
          <p:cNvPr id="492" name="Rectángulo 1"/>
          <p:cNvSpPr/>
          <p:nvPr/>
        </p:nvSpPr>
        <p:spPr>
          <a:xfrm>
            <a:off x="2771640" y="6021360"/>
            <a:ext cx="62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900" spc="-1" strike="noStrike">
                <a:solidFill>
                  <a:srgbClr val="000000"/>
                </a:solidFill>
                <a:latin typeface="Calibri"/>
              </a:rPr>
              <a:t>http://es.slideshare.net/faropaideia/psicologa-social-autoconcepto-e-identid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028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Calibri"/>
              </a:rPr>
              <a:t>IDENTIDAD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1:48Z</dcterms:modified>
  <cp:revision>374</cp:revision>
  <dc:subject/>
  <dc:title>Diapositiva 1</dc:title>
</cp:coreProperties>
</file>